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6459-8931-4F03-B54A-A37A78055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D005-5C91-419F-BDB9-FA75ACEC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B871-2EDC-422F-BAEC-3876D103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298C-68D0-4EBD-A3CD-EB4667D6C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21CA-396B-4AC6-B2C2-F21FF1B3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B4B3-CC38-492F-BD06-7039DC84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E01B-1B54-4D6E-95A2-A76FC8DE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7AB5-7F0A-4188-B523-3E08C089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CE5B-44DF-4E43-96A7-CFF08F26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0C7A-27F6-4B55-9F81-982729DC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25E7-BA6A-481F-8A16-F574D279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59C3-F68F-4A42-9403-DCAF8462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CA06-1615-4B37-B35E-01F68C6E5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eague Mi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eek City-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http://greecetaxivip.gr/useful_info/ancientgreece_clip_image005.gif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tudy of wisdom and the right way to l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http://www.users.cloud9.net/~bradmcc/jpg/SA.jpg"/>
          <p:cNvPicPr/>
          <p:nvPr/>
        </p:nvPicPr>
        <p:blipFill>
          <a:blip r:embed="rId1"/>
          <a:stretch/>
        </p:blipFill>
        <p:spPr>
          <a:xfrm>
            <a:off x="0" y="1965240"/>
            <a:ext cx="91440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area of land nearly surrounded by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http://www.earthweek.com/online/ew071012/ew071012h.jpg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ar between Athens and Spa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http://www.crystalinks.com/pelopwarmap.jpg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http://www.southwestern.edu/departments/classics/text-restr/lawton12.jpeg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heltered place along a coast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http://www.fineartpaintingtips.com/wp-content/uploads/2010/10/ancient-greek-ships.jpg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ttp://worldmarked.com/wp-content/uploads/2012/01/Athens_Acropolis.jpg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eeks meet and conduct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www.sikyon.com/athens/monuments/agora.jpg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0" y="685800"/>
            <a:ext cx="9144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ir 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5" descr="http://jacksonmanngradesix.weebly.com/uploads/6/5/2/2/6522842/4323090.png?345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http://downloads.bbc.co.uk/rmhttp/schools/primaryhistory/images/ancient_greeks/sparta/g_statue_of_king_leonidas_of_ancient_sparta.jpg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oup of people who live d apart from Greece but kept economic ties with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http://t1.gstatic.com/images?q=tbn:ANd9GcQUL9IwcwmK0lx6TQ6ucurgWClYL19ThzVkr5EvxHDsVbXwWPEZTsSH879A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http://greece.mrdonn.org/athens1.gif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hear evidence and make decisions in a court of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http://englishcollective.org/wp-content/uploads/2011/10/lady-justice.png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headed by one ru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http://0.tqn.com/d/ancienthistory/1/0/_/P/SaulandDavid.jpg"/>
          <p:cNvPicPr/>
          <p:nvPr/>
        </p:nvPicPr>
        <p:blipFill>
          <a:blip r:embed="rId1"/>
          <a:stretch/>
        </p:blipFill>
        <p:spPr>
          <a:xfrm>
            <a:off x="0" y="1487520"/>
            <a:ext cx="914400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poweruser</cp:lastModifiedBy>
  <dcterms:modified xsi:type="dcterms:W3CDTF">2012-03-02T17:01:37Z</dcterms:modified>
  <cp:revision>101</cp:revision>
  <dc:subject/>
  <dc:title>Ancient Greece</dc:title>
</cp:coreProperties>
</file>